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473-3505-44AB-9314-04D6E45B99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C15-BD96-4B5E-95AA-195560D4A7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A609-A0E5-453F-86CD-9B589223DE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16E6-AFD4-493A-9C87-19B7FD7372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7C26-5337-4627-83C5-C911C9FAB5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280A-3346-4D32-B594-E1B66D3784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BC40-058C-435A-9009-2D8ACC30E3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7A2-1E67-497A-9F32-BABB19D71D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CC0-4E37-4D04-A182-CEC7663AAC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61C-2080-46E3-B38D-ACF00636EF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B37E-3E95-49C0-ABDE-1BDAD6EBC7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032-8B0D-4540-9CA4-B8C26BDD82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A0E-23B0-42AF-BD8E-820F743501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B27B-E50C-408F-A7DF-861E88F89F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Progressive Reform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2668624"/>
          <p:cNvPicPr/>
          <p:nvPr/>
        </p:nvPicPr>
        <p:blipFill>
          <a:blip r:embed="rId1"/>
          <a:stretch/>
        </p:blipFill>
        <p:spPr>
          <a:xfrm>
            <a:off x="2286000" y="259092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1"/>
          <p:cNvSpPr/>
          <p:nvPr/>
        </p:nvSpPr>
        <p:spPr>
          <a:xfrm>
            <a:off x="1371600" y="1619280"/>
            <a:ext cx="6553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ckraker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used investigative reporting to uncover and dramatize societal i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71600" y="2666880"/>
            <a:ext cx="4419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incoln Steffens 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Shame of the Cities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John Spargo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Bitter Cry of the Childr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da Tarbell</a:t>
            </a:r>
            <a:br>
              <a:rPr sz="2200"/>
            </a:b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History of Standard O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9" descr="hsus_ch_017_s.1_standardoil_dd.jpg"/>
          <p:cNvPicPr/>
          <p:nvPr/>
        </p:nvPicPr>
        <p:blipFill>
          <a:blip r:embed="rId1"/>
          <a:stretch/>
        </p:blipFill>
        <p:spPr>
          <a:xfrm>
            <a:off x="5619600" y="2511360"/>
            <a:ext cx="232416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990720" y="99072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cob Ri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the deplorable conditions poor people were forced to live under through his photography and i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ow the Other Half Liv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2668624"/>
          <p:cNvPicPr/>
          <p:nvPr/>
        </p:nvPicPr>
        <p:blipFill>
          <a:blip r:embed="rId1"/>
          <a:stretch/>
        </p:blipFill>
        <p:spPr>
          <a:xfrm>
            <a:off x="1905120" y="2292480"/>
            <a:ext cx="525780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6"/>
          <p:cNvSpPr/>
          <p:nvPr/>
        </p:nvSpPr>
        <p:spPr>
          <a:xfrm flipH="1" rot="10800000">
            <a:off x="1547640" y="1828440"/>
            <a:ext cx="6019920" cy="2057400"/>
          </a:xfrm>
          <a:prstGeom prst="upArrowCallout">
            <a:avLst>
              <a:gd name="adj1" fmla="val 51318"/>
              <a:gd name="adj2" fmla="val 46531"/>
              <a:gd name="adj3" fmla="val 24505"/>
              <a:gd name="adj4" fmla="val 68540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295280" y="43434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pton Sinclai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novel </a:t>
            </a:r>
            <a:r>
              <a:rPr b="0" i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Jung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vided a shocking look at meatpacking in Chicago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tocky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943280" y="2057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aturalist novel portray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uggle of common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 flipH="1" rot="5400000">
            <a:off x="1066320" y="1828800"/>
            <a:ext cx="3657600" cy="3200400"/>
          </a:xfrm>
          <a:prstGeom prst="upArrowCallout">
            <a:avLst>
              <a:gd name="adj1" fmla="val 20023"/>
              <a:gd name="adj2" fmla="val 18180"/>
              <a:gd name="adj3" fmla="val 16958"/>
              <a:gd name="adj4" fmla="val 43119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523880" y="2635200"/>
            <a:ext cx="228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novelists covered a wide range of topi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419720" y="1447920"/>
            <a:ext cx="342900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odore Dreis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ister Carrie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iscuss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actory conditions for working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rances Ellen Watkin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ola Lero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focused o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acial iss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rank Norri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Octopu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entered on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ensions between farmers and the railroa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6"/>
          <p:cNvSpPr/>
          <p:nvPr/>
        </p:nvSpPr>
        <p:spPr>
          <a:xfrm flipH="1" rot="10792800">
            <a:off x="712440" y="1226520"/>
            <a:ext cx="7697880" cy="1515960"/>
          </a:xfrm>
          <a:prstGeom prst="upArrowCallout">
            <a:avLst>
              <a:gd name="adj1" fmla="val 47633"/>
              <a:gd name="adj2" fmla="val 4412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 flipH="1" rot="5400000">
            <a:off x="3618720" y="3390480"/>
            <a:ext cx="1981080" cy="3429000"/>
          </a:xfrm>
          <a:prstGeom prst="rect">
            <a:avLst/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48120" y="4191120"/>
            <a:ext cx="3047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ristian reform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Social Gosp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manded a shorter work day and the end of child lab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85800" y="1295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reformers worked 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ange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14400" y="2743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ne Addam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ttlement hou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vement. Her urban community centers provided social services for immigrants and the p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066680" y="8380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cceeded in reducing child labor and improving school enroll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ch17_charts_hsus_se_p0553b"/>
          <p:cNvPicPr/>
          <p:nvPr/>
        </p:nvPicPr>
        <p:blipFill>
          <a:blip r:embed="rId1"/>
          <a:stretch/>
        </p:blipFill>
        <p:spPr>
          <a:xfrm>
            <a:off x="4800600" y="2819520"/>
            <a:ext cx="3822840" cy="329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h17_charts_hsus_se_p0553a"/>
          <p:cNvPicPr/>
          <p:nvPr/>
        </p:nvPicPr>
        <p:blipFill>
          <a:blip r:embed="rId2"/>
          <a:stretch/>
        </p:blipFill>
        <p:spPr>
          <a:xfrm>
            <a:off x="533520" y="2895480"/>
            <a:ext cx="3954240" cy="3040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219320" y="16765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ited States Childre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Burea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created in 191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9"/>
          <p:cNvSpPr/>
          <p:nvPr/>
        </p:nvSpPr>
        <p:spPr>
          <a:xfrm>
            <a:off x="2057400" y="2209680"/>
            <a:ext cx="487692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362320" y="266688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1, 146 workers died in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iangle Shirtwaist Fi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 Many young women jumped to their deaths or bur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1295280"/>
            <a:ext cx="6400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900s, the U.S. had the world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highest rate of industrial accident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600200" y="4800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rker safety was an important issue for Progress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 flipH="1" rot="5400000">
            <a:off x="1476000" y="1714320"/>
            <a:ext cx="3200400" cy="3733920"/>
          </a:xfrm>
          <a:prstGeom prst="upArrowCallout">
            <a:avLst>
              <a:gd name="adj1" fmla="val 19965"/>
              <a:gd name="adj2" fmla="val 18454"/>
              <a:gd name="adj3" fmla="val 16960"/>
              <a:gd name="adj4" fmla="val 40044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90840" y="2362320"/>
            <a:ext cx="22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reform society, Progressives realized they must also reform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029200" y="2181240"/>
            <a:ext cx="32767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overnment could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ot be controlled by political bos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business inter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overnment need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be more efficient and more accoun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o th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1066680" y="2590920"/>
            <a:ext cx="6782040" cy="32004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10"/>
          <p:cNvSpPr/>
          <p:nvPr/>
        </p:nvSpPr>
        <p:spPr>
          <a:xfrm flipH="1" rot="10792800">
            <a:off x="1141920" y="1219320"/>
            <a:ext cx="6781680" cy="1234800"/>
          </a:xfrm>
          <a:prstGeom prst="upArrowCallout">
            <a:avLst>
              <a:gd name="adj1" fmla="val 59554"/>
              <a:gd name="adj2" fmla="val 55506"/>
              <a:gd name="adj3" fmla="val 27056"/>
              <a:gd name="adj4" fmla="val 77709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752480" y="1219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ities and states experimented with new methods of gove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2514600"/>
          <a:ext cx="6476760" cy="333072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1447920">
                <a:tc>
                  <a:txBody>
                    <a:bodyPr lIns="137160" rIns="137160" tIns="137160" bIns="9144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n Wisconsin, Governor Robert M. La Follette and other Progressives reformed state government to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restore political control to the peop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137160" rIns="137160" tIns="137160" bIns="91440" anchor="t">
                      <a:noAutofit/>
                    </a:bodyPr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direct prim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initi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referendu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571680" indent="-22860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MS Pゴシック"/>
                        </a:rPr>
                        <a:t>recal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2"/>
          <p:cNvSpPr/>
          <p:nvPr/>
        </p:nvSpPr>
        <p:spPr>
          <a:xfrm>
            <a:off x="609480" y="1295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governors achieved state-level reforms of the railroads and tax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838080" y="4038480"/>
            <a:ext cx="6934320" cy="1143000"/>
            <a:chOff x="838080" y="4038480"/>
            <a:chExt cx="6934320" cy="1143000"/>
          </a:xfrm>
        </p:grpSpPr>
        <p:sp>
          <p:nvSpPr>
            <p:cNvPr id="105" name="Rounded Rectangle 6"/>
            <p:cNvSpPr/>
            <p:nvPr/>
          </p:nvSpPr>
          <p:spPr>
            <a:xfrm>
              <a:off x="838080" y="4038480"/>
              <a:ext cx="69343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cdff">
                    <a:alpha val="62352"/>
                  </a:srgbClr>
                </a:gs>
                <a:gs pos="100000">
                  <a:srgbClr val="e8eae9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2"/>
            <p:cNvSpPr/>
            <p:nvPr/>
          </p:nvSpPr>
          <p:spPr>
            <a:xfrm>
              <a:off x="990720" y="4114800"/>
              <a:ext cx="647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n the national level, in 1913, Progressive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elped pass the </a:t>
              </a:r>
              <a:r>
                <a:rPr b="0" lang="en-US" sz="20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17</a:t>
              </a:r>
              <a:r>
                <a:rPr b="0" lang="en-US" sz="2000" spc="-1" strike="noStrike" baseline="30000">
                  <a:solidFill>
                    <a:srgbClr val="002060"/>
                  </a:solidFill>
                  <a:latin typeface="Verdana"/>
                  <a:ea typeface="Arial"/>
                </a:rPr>
                <a:t>th</a:t>
              </a:r>
              <a:r>
                <a:rPr b="0" lang="en-US" sz="20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Amendment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oviding for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  <a:ea typeface="Arial"/>
                </a:rPr>
                <a:t>direct election of United States Senator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Rectangle 5"/>
          <p:cNvSpPr/>
          <p:nvPr/>
        </p:nvSpPr>
        <p:spPr>
          <a:xfrm>
            <a:off x="838080" y="259092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wo Progressive Governors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heodore Roosevel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New York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odrow Wilson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New Jersey, would become Progressive presi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143000" y="2057400"/>
            <a:ext cx="7202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the causes of Progressiv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role that journalists played in the Progressiv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some of the social reforms that Progressives tackl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at Progressives hoped to achieve through political refor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37016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370160"/>
            <a:ext cx="752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1752480"/>
            <a:ext cx="777240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vement that responded to the pressures of industrialization and urbanization by promoting re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ckrak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riter who uncovers and exposes misconduct in politics or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incoln Steffe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uckraking author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hame of the Cities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corruption in urban govern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cob Ri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uckraking photographer and author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ow The Other Half Lives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exposed the condition of the urban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533520" y="137016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2120" y="1981080"/>
            <a:ext cx="761976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ane Addam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ader in the settlement house m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ttlement hou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community center that provided services for the urban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ocial Gosp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lief that following Christian principles could bring about social just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direct primar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lowed voters to select candidates rather than having them selected by party lea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455760" y="137016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62120" y="2133720"/>
            <a:ext cx="761976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itiativ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cess in which citizens put a proposed new law directly on the ball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ferendu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cess that allows citizens to reject or accept laws passed by their legisla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ca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cess by which voters can remove elected officials from office before their terms 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295280" y="1676520"/>
            <a:ext cx="7467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areas did Progressives think were in need of the greatest reform?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295280" y="2743200"/>
            <a:ext cx="7239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a reform movement that responded to the social challenges caused by industrialization, urbanization, and immigration in the 1890s and 1900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that honest and efficient government could bring about social justi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1"/>
          <a:stretch/>
        </p:blipFill>
        <p:spPr>
          <a:xfrm>
            <a:off x="685800" y="1655640"/>
            <a:ext cx="5238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 flipH="1" rot="5400000">
            <a:off x="1257120" y="1600200"/>
            <a:ext cx="3124080" cy="3124080"/>
          </a:xfrm>
          <a:prstGeom prst="upArrowCallout">
            <a:avLst>
              <a:gd name="adj1" fmla="val 13418"/>
              <a:gd name="adj2" fmla="val 12500"/>
              <a:gd name="adj3" fmla="val 16958"/>
              <a:gd name="adj4" fmla="val 42341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29"/>
          <p:cNvSpPr/>
          <p:nvPr/>
        </p:nvSpPr>
        <p:spPr>
          <a:xfrm>
            <a:off x="4305240" y="1523880"/>
            <a:ext cx="4000680" cy="3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liev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ndustrialization and urbanization had created social and political proble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ere mainly from the emerg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iddle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nted to reform by us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logic and rea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419120" y="2362320"/>
            <a:ext cx="2210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were reformers w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9"/>
          <p:cNvSpPr/>
          <p:nvPr/>
        </p:nvSpPr>
        <p:spPr>
          <a:xfrm>
            <a:off x="914400" y="14572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honest and efficient government could bring about social justi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600200" y="2819520"/>
            <a:ext cx="54100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ant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nd corru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tri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ke government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re responsive to people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nee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believed that educated lead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use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dern ideas and scientific        techniques to improve socie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295280" y="1219320"/>
            <a:ext cx="57913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targeted a variet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f issues and proble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1752480" y="2438280"/>
            <a:ext cx="48769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rrupt political mach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rusts and monopo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equ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ity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7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ome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suff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32:08Z</dcterms:modified>
  <cp:revision>29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